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156F-70CD-4074-B1DA-3AE0ECB1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9D01-51AA-4D84-95CC-1518B18A6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4B6-C7DE-4070-A0FA-1ED63808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8A4-73DE-4C3B-B222-0A73A9D12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498D-3779-4145-A584-D99EE224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3D42-438A-42B3-9833-5B60E269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C23-37BB-4576-A4BC-E2300D15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B4F0-D888-43CD-A1D0-7F250FF90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3C8E-602E-4581-95B4-A072BBEA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6F60-CEA7-4E3E-80DB-1D4F3A84C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304-E25E-48C4-BD08-2B5B08DF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2DF4-506A-494D-9A52-397374BC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E86AE-0886-4F55-8F97-BFA845454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Literature Circ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group of peers that will read assigned sections of the book and help the group understand and analyze the tex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group gets a grade (20) and each individual gets a grade(30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end of the process, your group will be creating a culminating project that will be worth 75 poi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r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Packet contains 4 or 5 roles.  Assign a rotating system of roles so that each person has a role for each day (6 days total- I will give you extras on that da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and come prepared each day with your role sheet comple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member should participate and take notes during the mee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s for each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 2/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ters-Chap. 2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d 2/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. 3- Chap. 7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urs 3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. 8-Chap. 12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iz:  group work will sub for those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i 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. 13-Chap. 16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 3/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starts at 10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. 17-Chap. 20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es 3/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starts at 10: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. 21-end &amp;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Paper Due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 Circles (1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ie, John Michael, Mary Catherine, Christ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nger, Richard, St. Claire, Ja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se, Leigh, Tony, Guer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anor, Matthew, Bailey, L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ler M., Mary Alice, Mary Robb, Tyler 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 Circles (3r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deth, Frank, David S., Ed, David 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t, Hunter, Rita C., Miller, Gr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Evelyn, Jay, Michael, G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n, Nick, Adelle, And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di, Jess, Jim, Th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 Circles (5t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mille, William, Merritt, D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, Ryan H., Becky, Spe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oking, Joanna, Will, Matth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art, Casey, Hunter, Frannie, Re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hley, Allen, Ryan L., Broo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terature Circles (7th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m, Reed, Lacey, Th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ck, Summerlin, Carol, Billy, W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alie, Matthew, Raines, Jonathan, Dr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rdon, Rebecca, Hal, Ch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ences and Other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miss a day, it is your responsibility to get me your role sheet and to inform your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members will do a self and a group evaluation.  If you miss too many days, it is likely you will get a negative evaluation for your part of the 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causing a problem or not doing their work in the group will do the work individually and the project individu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14:07:59Z</dcterms:created>
  <dc:creator>User</dc:creator>
  <dc:description/>
  <dc:language>en-US</dc:language>
  <cp:lastModifiedBy>User</cp:lastModifiedBy>
  <dcterms:modified xsi:type="dcterms:W3CDTF">2007-02-26T18:35:45Z</dcterms:modified>
  <cp:revision>4</cp:revision>
  <dc:subject/>
  <dc:title>What is a Literature Circle?</dc:title>
</cp:coreProperties>
</file>